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0FFF6-99E6-475E-AC1A-DF97AD2D5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D298E-020E-427D-A221-74DCD3BC3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D62A1-9830-4955-8110-0EF866A68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626FB-6497-4DCD-B51B-EBF1093DE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82173-9E2A-4377-B59A-0AD21E340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2BBB3-1BEF-4C54-96A9-41022BE38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50389-9DB3-4F81-8D66-43B69F2BF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6A092-D217-491E-9F8C-847243F55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C5BA0-D975-449D-BF4E-FDFEA2526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8FAAF-63FC-4B68-8873-9DA5A9F35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A9438-BB98-49CF-AAD0-41B54F02C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D1893-FF6E-44BB-AD0E-579C18C85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7DAEF-5BCA-416D-A9E2-66752218F4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400" y="1676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Russia’s Tough Pas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Kyle Murphy 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argaret Pow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ievan R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lavs built civilization around modern day Kiev in 800 C.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ir civilization was called Kievan 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stern Orthodox Christianity was accepted in 1000 C.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were often trading with Western Europe and Mediterranean coun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ngol Trou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B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ongols interrupted Kievan Rus’ trading with other countries. Their rule lasted 1200 C.E.-1400 C.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Go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only lasted 200 year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343400" y="1752480"/>
            <a:ext cx="0" cy="5334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van III of Muscov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cow became a new Slavic cen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was called Muscovy.  In 1380 Ivan III ( a prince) threw out the Mongols and made the land independent.  HORAYYY!!!!!!!!!  Muscovy became the place we call Russi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van IV ( the terrible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van IV called himself czar ( z-are) and controlled the people of Russi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4T19:04:09Z</dcterms:created>
  <dc:creator> </dc:creator>
  <dc:description/>
  <dc:language>en-US</dc:language>
  <cp:lastModifiedBy> </cp:lastModifiedBy>
  <dcterms:modified xsi:type="dcterms:W3CDTF">2010-12-15T19:19:23Z</dcterms:modified>
  <cp:revision>6</cp:revision>
  <dc:subject/>
  <dc:title>Russia’s Tough Past</dc:title>
</cp:coreProperties>
</file>